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85B0-B882-400E-9860-7123610E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F235-E93D-48E1-9FC0-2E27FCEB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A99C-1B64-46EE-ACE1-F1F472DB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601D-636D-4B6D-B9AC-4E7A6840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AC64-B32B-4F16-A9FB-6BF4538A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77F2-DFCA-49B3-A434-FD918BF5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5A63-E7D1-453B-8190-A47EBC39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755E-F5DC-4FC1-9C12-3E1A3F46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0455-FEAA-445D-8F47-683706B6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32F6-D2EE-4F41-BF0D-B3A276FF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D38A-381F-4364-BFF7-FC5C848B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788A-CE1C-40F4-ADD1-13F10DE5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833A-8047-41AE-8ECD-F760021C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8C6A-833E-43F5-8F66-A868F169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1D1F-C425-49F9-911E-6082A43E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B8F0-A62E-4D13-AD7A-9D850C11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D480-271D-4501-BB1C-CA2D5FAA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5E74-551E-4622-8580-FF52AC52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2D56-8890-466F-B927-94E48415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E519E-27A8-4848-98EE-5B9C004E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6DAA-26DF-4FD7-A8FB-9A07E3ED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5D5B4-B201-4FCD-8D3A-D38F85B0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D5EA9-6D15-473A-8E33-8982379A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58546-2165-4C90-88F3-FD973C0C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35E52-087C-4013-B4B8-2960D751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2AEC9-4167-409C-9F77-F4087CC2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38A0B-6EAE-4D70-A436-556382DE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0C7C9-6C1C-493F-BBC9-BF4EC412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2CBE9-0D2B-4B87-82D2-7AF48987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2B9D5-A1DC-43D7-BB9D-8B78DD91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D8589-29ED-4DB5-90F4-D68AAC72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CED6-C587-4DF3-B6E2-B7B99173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8F4A9-0D10-4D86-BC58-8F7531E1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BDA5E-272A-4C00-A397-1854A21B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A5AD6-B6B7-4F0B-A1C6-FEC7C271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81C02-3ACF-4689-A929-3F78FB8C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C3AC3-F477-4368-AB94-EA65DCDD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341A9-0441-48E8-AF8A-23C5E361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83AAB-5D2B-47A1-B651-D49EBF61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270E1-513F-4383-AC7E-73844799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D0438-BDFE-4177-8EB5-C6F5D818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7A428-6E32-4B37-AACF-3C5A0C71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8B73-64FB-45E2-993C-B91A290D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0BA78-AD7A-4448-AC19-B2EE1B34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2F3A3-2849-419C-8BDD-45299A78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80FBA-291C-455B-9CFE-50627699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A7DC-F8F8-435C-ABB6-EAB69885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F354-5D73-4423-A55C-2578F981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156F15E5-BC1E-45D0-B169-4C58817398B7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0C029946-9ED6-4E87-A03C-9CADC0CAB46F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9BC5802F-E286-47EF-B030-ABBB672BAB12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73DA7BCD-A826-438F-B007-941860CE0342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1988640"/>
            <a:ext cx="10157040" cy="7923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Wyjaśnij pojęcia: aseptyka, antyseptyka 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98440" y="1844280"/>
            <a:ext cx="10220400" cy="3102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pl-PL" sz="2400" spc="-1" strike="noStrike">
                <a:solidFill>
                  <a:srgbClr val="374c81"/>
                </a:solidFill>
                <a:latin typeface="Century Gothic"/>
              </a:rPr>
              <a:t>Aseptyka</a:t>
            </a: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 – to niedopuszczenie drobnoustrojów chorobotwórczych do rany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pl-PL" sz="2400" spc="-1" strike="noStrike">
                <a:solidFill>
                  <a:srgbClr val="374c81"/>
                </a:solidFill>
                <a:latin typeface="Century Gothic"/>
              </a:rPr>
              <a:t>Antyseptyka</a:t>
            </a: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 – to usunięcie drobnoustrojów, które dostały się do rany 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56:4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